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0.xml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1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1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1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4.xml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4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zid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1200" y="549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2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57040" y="6086520"/>
            <a:ext cx="3108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Subtraktionsazido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scheid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</a:t>
            </a:r>
            <a:r>
              <a:rPr b="0" lang="en-US" sz="1800" spc="-1" strike="noStrike" u="sng" baseline="30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+</a:t>
            </a:r>
            <a:r>
              <a:rPr b="0" lang="en-US" sz="1800" spc="-1" strike="noStrike" u="sng" baseline="30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1800" spc="-1" strike="noStrike" u="sng" baseline="30000">
                <a:solidFill>
                  <a:srgbClr val="333399"/>
                </a:solidFill>
                <a:uFillTx/>
                <a:latin typeface="Arial"/>
                <a:ea typeface="Arial"/>
                <a:hlinkClick r:id="rId9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2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2" idx="3"/>
            <a:endCxn id="16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1117080" y="549360"/>
            <a:ext cx="6978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8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9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0280" y="6120000"/>
            <a:ext cx="1965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0" idx="3"/>
            <a:endCxn id="17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4" name=""/>
          <p:cNvCxnSpPr>
            <a:stCxn id="170" idx="3"/>
            <a:endCxn id="17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1117080" y="549360"/>
            <a:ext cx="6978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Verlust von 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7080" y="549360"/>
            <a:ext cx="6978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Verlust von 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-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8" idx="3"/>
            <a:endCxn id="18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urchfa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rbrech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17080" y="549360"/>
            <a:ext cx="6978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Verlust von 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-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3"/>
            <a:endCxn id="18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ximale Tubulusazidose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r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+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080" y="549360"/>
            <a:ext cx="6978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uscheidung von H</a:t>
            </a:r>
            <a:r>
              <a:rPr b="1" lang="de-DE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3"/>
            <a:endCxn id="19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stale Tubulusazidose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r Nieren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terga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nen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r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0280" y="6120000"/>
            <a:ext cx="1965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7" idx="3"/>
            <a:endCxn id="19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spirator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9440" y="549360"/>
            <a:ext cx="202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zid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ea typeface="Arial"/>
                <a:hlinkClick r:id="rId7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3" idx="3"/>
            <a:endCxn id="20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or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vent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29240" y="549360"/>
            <a:ext cx="46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id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respiratorische 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vent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rad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w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spirator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3"/>
            <a:endCxn id="20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2" name=""/>
          <p:cNvCxnSpPr>
            <a:stCxn id="208" idx="3"/>
            <a:endCxn id="21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1106640" y="549360"/>
            <a:ext cx="647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respiratorische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0" action="ppaction://hlinksldjump"/>
              </a:rPr>
              <a:t>Hypovent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rad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trächt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einträcht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temmuskul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3"/>
            <a:endCxn id="21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0" name=""/>
          <p:cNvCxnSpPr>
            <a:stCxn id="216" idx="3"/>
            <a:endCxn id="21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106280" y="549360"/>
            <a:ext cx="667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respiratorische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ypovent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rady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trächt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06280" y="549360"/>
            <a:ext cx="667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vent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rad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eeinträchtigung des 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3"/>
            <a:endCxn id="2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rk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 des Z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6120000"/>
            <a:ext cx="3108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NS = zentrales Nervensyst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3"/>
            <a:endCxn id="10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etabol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9160" y="549360"/>
            <a:ext cx="210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zid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-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trächt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muskul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6280" y="549360"/>
            <a:ext cx="667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vent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rady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eeinträchtigung der Atemmuskul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3"/>
            <a:endCxn id="23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otul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ta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or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asaustausch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er Lunge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6" idx="3"/>
            <a:endCxn id="23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0" name=""/>
          <p:cNvCxnSpPr>
            <a:stCxn id="236" idx="3"/>
            <a:endCxn id="23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1105920" y="549360"/>
            <a:ext cx="6676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respiratorische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ypovent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1" action="ppaction://hlinksldjump"/>
              </a:rPr>
              <a:t>schwere respiratorische 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440" y="549360"/>
            <a:ext cx="8149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pCO</a:t>
            </a:r>
            <a:r>
              <a:rPr b="1" lang="de-DE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↑ &gt; respiratorische Azidose &gt; Hypoventilation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chwere respiratorische Erkrank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&gt; Obstruktion der 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3"/>
            <a:endCxn id="24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xparaly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iozephalen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kute allergische Schwellung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austausch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unge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7720" y="549360"/>
            <a:ext cx="8239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pCO</a:t>
            </a:r>
            <a:r>
              <a:rPr b="1" lang="de-DE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↑ &gt; respiratorische Azidose &gt; Hypoventilation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chwere respiratorische Erkrankung &gt; Gasaustausch in der Lunge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0" idx="3"/>
            <a:endCxn id="2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kardiogen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kardiog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abol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ionenlücke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ubtrak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19520" y="549360"/>
            <a:ext cx="458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 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dditionsazido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3"/>
            <a:endCxn id="12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20" idx="3"/>
            <a:endCxn id="12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ulfat-/Phospha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3"/>
            <a:endCxn id="12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akt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549360"/>
            <a:ext cx="6396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nionenlück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2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3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4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5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kt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dukt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bakteri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selten beim 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s Gewebes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0" idx="3"/>
            <a:endCxn id="1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1084320" y="549360"/>
            <a:ext cx="6396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Lakt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bakteri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selten beim 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3440" y="549360"/>
            <a:ext cx="7733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Laktat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roduktion durch Darmbakterien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(selten beim 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ysbakte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Gewebe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4160" y="549360"/>
            <a:ext cx="683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Laktat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auerstoffversor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ewebes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ock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dreh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romboembol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84320" y="549360"/>
            <a:ext cx="6396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abetische Ketoazid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achex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lfat-/Phospha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4320" y="549360"/>
            <a:ext cx="6396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zid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Azid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ionenlück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ditionsazidos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&gt; Sulfat-/Phosphat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ales Stadium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thylenglykol-Intoxik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3:10:14Z</dcterms:modified>
  <cp:revision>337</cp:revision>
  <dc:subject/>
  <dc:title>Vorstellung einer Neuheit</dc:title>
</cp:coreProperties>
</file>